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31173-EF93-44B0-8F21-9E69F9EE3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73002-9F8D-4429-92D1-9612B257D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FFCE9-6089-40ED-AF28-69C3EAAC4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51105-BA9E-4D34-AEC5-66BF3ED9B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CAC64-E336-4DE7-B3C9-E1D418512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ED08C-7594-466D-8113-B556FAFE1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2A75C-8348-4E88-AE9F-9712662E7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A72D1-F485-4618-A152-AB7E8FB77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B5FF0-F40C-493A-AFDC-00E1822DA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FE0F0-CB35-4164-A85D-6848A125F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12762-E3DC-433E-B0EB-57385E0D3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49E58-F7DA-48FC-80DC-0CB1C495B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62E9F-6BD4-4DD9-97B4-DD95D05C75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1484280"/>
            <a:ext cx="7380360" cy="51753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556000" y="47628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555640" y="981000"/>
            <a:ext cx="14436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987640" y="981000"/>
            <a:ext cx="79236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564000" y="836640"/>
            <a:ext cx="115236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380360" y="404640"/>
            <a:ext cx="14396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chtstrich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uss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nn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3924000" y="1125360"/>
            <a:ext cx="3384360" cy="172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24000" y="1557360"/>
            <a:ext cx="3311640" cy="18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rcRect l="0" t="0" r="2401" b="8370"/>
          <a:stretch/>
        </p:blipFill>
        <p:spPr>
          <a:xfrm>
            <a:off x="0" y="0"/>
            <a:ext cx="7524720" cy="51004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 rot="15259800">
            <a:off x="2266560" y="2277360"/>
            <a:ext cx="1009800" cy="1152360"/>
          </a:xfrm>
          <a:custGeom>
            <a:avLst/>
            <a:gdLst>
              <a:gd name="textAreaLeft" fmla="*/ 0 w 1009800"/>
              <a:gd name="textAreaRight" fmla="*/ 1010160 w 1009800"/>
              <a:gd name="textAreaTop" fmla="*/ 0 h 1152360"/>
              <a:gd name="textAreaBottom" fmla="*/ 1152360 h 1152360"/>
            </a:gdLst>
            <a:ahLst/>
            <a:rect l="textAreaLeft" t="textAreaTop" r="textAreaRight" b="textAreaBottom"/>
            <a:pathLst>
              <a:path w="21600" h="21600">
                <a:moveTo>
                  <a:pt x="5205" y="10563"/>
                </a:moveTo>
                <a:arcTo wR="-5600" hR="-5600" stAng="-10654467" swAng="-5509553"/>
                <a:lnTo>
                  <a:pt x="10913" y="1"/>
                </a:lnTo>
                <a:arcTo wR="10800" hR="10800" stAng="-5364020" swAng="5509553"/>
                <a:lnTo>
                  <a:pt x="24288" y="11371"/>
                </a:lnTo>
                <a:lnTo>
                  <a:pt x="18768" y="16442"/>
                </a:lnTo>
                <a:lnTo>
                  <a:pt x="13697" y="10923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rot="15259800">
            <a:off x="2266920" y="5302080"/>
            <a:ext cx="1009440" cy="1152360"/>
          </a:xfrm>
          <a:custGeom>
            <a:avLst/>
            <a:gdLst>
              <a:gd name="textAreaLeft" fmla="*/ 0 w 1009440"/>
              <a:gd name="textAreaRight" fmla="*/ 1009800 w 1009440"/>
              <a:gd name="textAreaTop" fmla="*/ 0 h 1152360"/>
              <a:gd name="textAreaBottom" fmla="*/ 1152360 h 1152360"/>
            </a:gdLst>
            <a:ahLst/>
            <a:rect l="textAreaLeft" t="textAreaTop" r="textAreaRight" b="textAreaBottom"/>
            <a:pathLst>
              <a:path w="21600" h="21600">
                <a:moveTo>
                  <a:pt x="5205" y="10563"/>
                </a:moveTo>
                <a:arcTo wR="-5600" hR="-5600" stAng="-10654467" swAng="-5509553"/>
                <a:lnTo>
                  <a:pt x="10913" y="1"/>
                </a:lnTo>
                <a:arcTo wR="10800" hR="10800" stAng="-5364020" swAng="5509553"/>
                <a:lnTo>
                  <a:pt x="24288" y="11371"/>
                </a:lnTo>
                <a:lnTo>
                  <a:pt x="18768" y="16442"/>
                </a:lnTo>
                <a:lnTo>
                  <a:pt x="13697" y="10923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132000" y="5373720"/>
            <a:ext cx="51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AG and DROP: Glas vor das Auge zie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5259800">
            <a:off x="1980000" y="3572280"/>
            <a:ext cx="1368360" cy="1513080"/>
          </a:xfrm>
          <a:custGeom>
            <a:avLst/>
            <a:gdLst>
              <a:gd name="textAreaLeft" fmla="*/ 0 w 1368360"/>
              <a:gd name="textAreaRight" fmla="*/ 1368720 w 1368360"/>
              <a:gd name="textAreaTop" fmla="*/ 0 h 1513080"/>
              <a:gd name="textAreaBottom" fmla="*/ 1513440 h 1513080"/>
            </a:gdLst>
            <a:ahLst/>
            <a:rect l="textAreaLeft" t="textAreaTop" r="textAreaRight" b="textAreaBottom"/>
            <a:pathLst>
              <a:path w="21600" h="21600">
                <a:moveTo>
                  <a:pt x="5205" y="10563"/>
                </a:moveTo>
                <a:arcTo wR="-5600" hR="-5600" stAng="-10654467" swAng="-5509553"/>
                <a:lnTo>
                  <a:pt x="10913" y="1"/>
                </a:lnTo>
                <a:arcTo wR="10800" hR="10800" stAng="-5364020" swAng="5509553"/>
                <a:lnTo>
                  <a:pt x="24288" y="11371"/>
                </a:lnTo>
                <a:lnTo>
                  <a:pt x="18768" y="16442"/>
                </a:lnTo>
                <a:lnTo>
                  <a:pt x="13697" y="10923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1519200"/>
            <a:ext cx="7451640" cy="53388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042920" y="189000"/>
            <a:ext cx="511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Hier Arbeitsabstand auswähl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547640" y="836640"/>
            <a:ext cx="576360" cy="165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211640" y="620640"/>
            <a:ext cx="511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Hier richtiges Rezept auswähl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2916000" y="1268280"/>
            <a:ext cx="1368360" cy="331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076720" y="1125360"/>
            <a:ext cx="51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Hier Rezeptvorschlag check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1979280" y="1484280"/>
            <a:ext cx="3097080" cy="381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1484280"/>
            <a:ext cx="7380360" cy="51753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2556000" y="47628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ol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2555640" y="981000"/>
            <a:ext cx="14436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987640" y="981000"/>
            <a:ext cx="79236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564000" y="836640"/>
            <a:ext cx="115236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380360" y="404640"/>
            <a:ext cx="14396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ghtstrea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outs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ns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3924000" y="1125360"/>
            <a:ext cx="3384360" cy="172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3924000" y="1557360"/>
            <a:ext cx="3311640" cy="18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rcRect l="0" t="0" r="2401" b="8370"/>
          <a:stretch/>
        </p:blipFill>
        <p:spPr>
          <a:xfrm>
            <a:off x="0" y="0"/>
            <a:ext cx="7524720" cy="510048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 rot="15259800">
            <a:off x="2266560" y="2277360"/>
            <a:ext cx="1009800" cy="1152360"/>
          </a:xfrm>
          <a:custGeom>
            <a:avLst/>
            <a:gdLst>
              <a:gd name="textAreaLeft" fmla="*/ 0 w 1009800"/>
              <a:gd name="textAreaRight" fmla="*/ 1010160 w 1009800"/>
              <a:gd name="textAreaTop" fmla="*/ 0 h 1152360"/>
              <a:gd name="textAreaBottom" fmla="*/ 1152360 h 1152360"/>
            </a:gdLst>
            <a:ahLst/>
            <a:rect l="textAreaLeft" t="textAreaTop" r="textAreaRight" b="textAreaBottom"/>
            <a:pathLst>
              <a:path w="21600" h="21600">
                <a:moveTo>
                  <a:pt x="5205" y="10563"/>
                </a:moveTo>
                <a:arcTo wR="-5600" hR="-5600" stAng="-10654467" swAng="-5509553"/>
                <a:lnTo>
                  <a:pt x="10913" y="1"/>
                </a:lnTo>
                <a:arcTo wR="10800" hR="10800" stAng="-5364020" swAng="5509553"/>
                <a:lnTo>
                  <a:pt x="24288" y="11371"/>
                </a:lnTo>
                <a:lnTo>
                  <a:pt x="18768" y="16442"/>
                </a:lnTo>
                <a:lnTo>
                  <a:pt x="13697" y="10923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rot="15259800">
            <a:off x="2266920" y="5302080"/>
            <a:ext cx="1009440" cy="1152360"/>
          </a:xfrm>
          <a:custGeom>
            <a:avLst/>
            <a:gdLst>
              <a:gd name="textAreaLeft" fmla="*/ 0 w 1009440"/>
              <a:gd name="textAreaRight" fmla="*/ 1009800 w 1009440"/>
              <a:gd name="textAreaTop" fmla="*/ 0 h 1152360"/>
              <a:gd name="textAreaBottom" fmla="*/ 1152360 h 1152360"/>
            </a:gdLst>
            <a:ahLst/>
            <a:rect l="textAreaLeft" t="textAreaTop" r="textAreaRight" b="textAreaBottom"/>
            <a:pathLst>
              <a:path w="21600" h="21600">
                <a:moveTo>
                  <a:pt x="5205" y="10563"/>
                </a:moveTo>
                <a:arcTo wR="-5600" hR="-5600" stAng="-10654467" swAng="-5509553"/>
                <a:lnTo>
                  <a:pt x="10913" y="1"/>
                </a:lnTo>
                <a:arcTo wR="10800" hR="10800" stAng="-5364020" swAng="5509553"/>
                <a:lnTo>
                  <a:pt x="24288" y="11371"/>
                </a:lnTo>
                <a:lnTo>
                  <a:pt x="18768" y="16442"/>
                </a:lnTo>
                <a:lnTo>
                  <a:pt x="13697" y="10923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32000" y="5373720"/>
            <a:ext cx="51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RAG and DROP a glas in front of the ey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 rot="15259800">
            <a:off x="1980000" y="3572280"/>
            <a:ext cx="1368360" cy="1513080"/>
          </a:xfrm>
          <a:custGeom>
            <a:avLst/>
            <a:gdLst>
              <a:gd name="textAreaLeft" fmla="*/ 0 w 1368360"/>
              <a:gd name="textAreaRight" fmla="*/ 1368720 w 1368360"/>
              <a:gd name="textAreaTop" fmla="*/ 0 h 1513080"/>
              <a:gd name="textAreaBottom" fmla="*/ 1513440 h 1513080"/>
            </a:gdLst>
            <a:ahLst/>
            <a:rect l="textAreaLeft" t="textAreaTop" r="textAreaRight" b="textAreaBottom"/>
            <a:pathLst>
              <a:path w="21600" h="21600">
                <a:moveTo>
                  <a:pt x="5205" y="10563"/>
                </a:moveTo>
                <a:arcTo wR="-5600" hR="-5600" stAng="-10654467" swAng="-5509553"/>
                <a:lnTo>
                  <a:pt x="10913" y="1"/>
                </a:lnTo>
                <a:arcTo wR="10800" hR="10800" stAng="-5364020" swAng="5509553"/>
                <a:lnTo>
                  <a:pt x="24288" y="11371"/>
                </a:lnTo>
                <a:lnTo>
                  <a:pt x="18768" y="16442"/>
                </a:lnTo>
                <a:lnTo>
                  <a:pt x="13697" y="10923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1519200"/>
            <a:ext cx="7451640" cy="53388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1042920" y="189000"/>
            <a:ext cx="511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1. Chose your working di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547640" y="836640"/>
            <a:ext cx="576360" cy="165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211640" y="620640"/>
            <a:ext cx="511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2. Chose the values on the pr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2916000" y="1268280"/>
            <a:ext cx="1368360" cy="331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076720" y="1125360"/>
            <a:ext cx="51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3. Have them checked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1979280" y="1484280"/>
            <a:ext cx="3097080" cy="381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1T13:42:37Z</dcterms:created>
  <dc:creator>Klinische u. Administrat. DV</dc:creator>
  <dc:description/>
  <dc:language>en-US</dc:language>
  <cp:lastModifiedBy>Klinische u. Administrat. DV</cp:lastModifiedBy>
  <dcterms:modified xsi:type="dcterms:W3CDTF">2010-06-01T14:55:18Z</dcterms:modified>
  <cp:revision>5</cp:revision>
  <dc:subject/>
  <dc:title>Folie 1</dc:title>
</cp:coreProperties>
</file>