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80B-DB2B-4AB0-B925-379A5867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1BA-B9B6-4850-909D-87589B45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513-023A-4F29-952A-D044C19B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70C-5710-4142-97FB-33F94090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BD0-06CF-42F2-B6C9-4365EC5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815-05D0-4E06-AAB0-42491D3E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74F-CB44-4782-970D-FD6C7164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B5E-2DFF-4DAC-ABB7-981A3318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D8D-1F74-4779-86B0-A43E88B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036-C655-4E28-AB48-68A4E644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BCD-9137-44B6-92A7-05C8E05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EA0-ABB2-4DEF-AF85-57B7F68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8B7E-69BE-4C52-A8D7-C1859041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380360" cy="517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555640" y="98100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981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836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80360" y="404640"/>
            <a:ext cx="143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chtstri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24000" y="1125360"/>
            <a:ext cx="3384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000" y="1557360"/>
            <a:ext cx="3311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2401" b="8370"/>
          <a:stretch/>
        </p:blipFill>
        <p:spPr>
          <a:xfrm>
            <a:off x="0" y="0"/>
            <a:ext cx="7524720" cy="51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5259800">
            <a:off x="2266560" y="2277360"/>
            <a:ext cx="1009800" cy="115236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5259800">
            <a:off x="2266920" y="5302080"/>
            <a:ext cx="1009440" cy="115236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5373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: Glas vor das Auge zi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5259800">
            <a:off x="1980000" y="3572280"/>
            <a:ext cx="1368360" cy="1513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519200"/>
            <a:ext cx="7451640" cy="533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1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ier Arbeitsabstand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83664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62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ier richtiges Rezept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916000" y="1268280"/>
            <a:ext cx="136836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112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ier Rezeptvorschlag che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79280" y="1484280"/>
            <a:ext cx="309708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380360" cy="517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5600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55640" y="98100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981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836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404640"/>
            <a:ext cx="143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ghtstre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924000" y="1125360"/>
            <a:ext cx="3384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24000" y="1557360"/>
            <a:ext cx="3311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2401" b="8370"/>
          <a:stretch/>
        </p:blipFill>
        <p:spPr>
          <a:xfrm>
            <a:off x="0" y="0"/>
            <a:ext cx="7524720" cy="5100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5259800">
            <a:off x="2266560" y="2277360"/>
            <a:ext cx="1009800" cy="115236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259800">
            <a:off x="2266920" y="5302080"/>
            <a:ext cx="1009440" cy="115236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5373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AG and DROP a glas in front of the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5259800">
            <a:off x="1980000" y="3572280"/>
            <a:ext cx="1368360" cy="1513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519200"/>
            <a:ext cx="7451640" cy="5338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1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Chose your working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83664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62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Chose the values on the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916000" y="1268280"/>
            <a:ext cx="136836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112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Have them check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79280" y="1484280"/>
            <a:ext cx="309708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2:37Z</dcterms:created>
  <dc:creator>Klinische u. Administrat. DV</dc:creator>
  <dc:description/>
  <dc:language>en-US</dc:language>
  <cp:lastModifiedBy>Klinische u. Administrat. DV</cp:lastModifiedBy>
  <dcterms:modified xsi:type="dcterms:W3CDTF">2010-06-01T14:55:18Z</dcterms:modified>
  <cp:revision>5</cp:revision>
  <dc:subject/>
  <dc:title>Folie 1</dc:title>
</cp:coreProperties>
</file>